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9B82-3B4E-4C60-BF2A-98829E101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5FA4-0282-4041-98E2-7C75AEF51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CBD2-ACAA-46B9-9277-A02AB0EBF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21AB-B7DA-474C-8E11-29BB4C2A1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967D7-DD7C-4D8D-A67C-5DB29CED3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5784A-B07C-47BD-B8CB-AE42BD401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8C4FB-14E2-47EE-9E16-FA80ACF3E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49F55-ECEF-4F1D-BD48-A43B78F4B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08FFC-CC05-40F7-9C94-6BE377983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86E2D-2980-4195-AA7F-4E5EFE30B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BF467-FE82-4202-84EF-1FC771F0B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4B85-03C7-4F32-99A6-A243C7211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36558-28E4-4ED0-BBE4-BFC069AE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48436-6B0B-4053-819F-7D4BB405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187AB-3FB9-42D3-95D0-CD494D8CB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3F9A7-3DA7-4699-A94C-A1FC1C53B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6AF09-5638-450A-AED5-DDA1A841E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4011-A094-4A64-965F-79DA6377D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E31E-0204-4477-90F1-34002C0C5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1614-30E3-41B1-A7A8-9BF070A91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B834-1279-4FD5-9F88-3461F29CD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4184-B624-4B68-A73D-4891C149A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9E1F-2B21-4B9D-BD6D-7DEB8DDE4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579B-17A1-49F6-A0D2-A8F38EC4B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002E4-15A2-455E-B100-B5969D166E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DBA9E-7E92-4BDF-A1A4-3990F1DBF8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mfzibran@ucalgary.ca" TargetMode="External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PSC 203 Tutoria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ection: T22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days and Wednesday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2:00 PM – 12:50 P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oom: MS 236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eaching Assista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.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ahim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Zibra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hD student, Dept. of Computer Scien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mail: </a:t>
            </a:r>
            <a:r>
              <a:rPr b="0" lang="en-US" sz="16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mfzibran@ucalgary.c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eb: www.ucalgary.ca/~mfzibra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T Hour: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Wednesday, 4:00 PM- 6:00 P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oom: MS 237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mportant Dates !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4 Lab Quizz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Feb: MS Excel Spreadshe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arch: MS Access Datab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arch: Problem Solv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pril: Design Skil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 Take Home Assign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ignment 1: Out: Jan 21 2009, Due: Feb 23 2009, 11:59P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ignment 2: Out: Mar 09 2009, Due: April 03 2009, 11:59PM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 Term Project (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be done in the wiki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ut: Mar 09 2009, Oral Presentation: April 06 2009 to April 16 2009, Wiki Part Due: April 17 2009, 11:59P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mportant Link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66280" y="1752480"/>
            <a:ext cx="8001000" cy="43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eneral Wiki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866880" indent="-470160">
              <a:spcBef>
                <a:spcPts val="499"/>
              </a:spcBef>
              <a:buClr>
                <a:srgbClr val="cc0000"/>
              </a:buClr>
              <a:buSzPct val="1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wiki.ucalgary.ca/page/Courses/Computer_Science/CPSC_203/CPSC_203_Templ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utorial-22 TA wik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wiki.ucalgary.ca/page/Courses/Computer_Science/CPSC_203/CPSC_203_Template/CPSC203_Template_People/Fahim_Zibr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9T03:47:13Z</dcterms:created>
  <dc:creator>Fahim</dc:creator>
  <dc:description/>
  <dc:language>en-US</dc:language>
  <cp:lastModifiedBy>Information Technologies</cp:lastModifiedBy>
  <dcterms:modified xsi:type="dcterms:W3CDTF">2009-01-19T19:14:10Z</dcterms:modified>
  <cp:revision>19</cp:revision>
  <dc:subject/>
  <dc:title>CPSC 203 Tutorial Section: T32</dc:title>
</cp:coreProperties>
</file>